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99F6-94F5-4287-8371-15D3DF59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E41F-BDA5-4A1E-B568-53AE290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29B8-6222-4341-A522-6CFA3F530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23A8-D208-4CFA-8199-C351AEF2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BEFD-A1FB-4A25-97D4-6A34AA751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125D-E52A-4755-89A6-220F285F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F9E-FDC0-478D-B18D-0930FB76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98D7-7479-4A60-81DD-4F42DC0F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1AC33-3617-4961-9613-E1867454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C243-FBC0-4A5A-BC20-896B33D3D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5AD1-3616-49D2-8419-10FF9660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DFF6-104A-4596-8648-B9991878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F17-C226-4544-8DC8-EA0665DBF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D4D24-4809-483F-BA78-EAC900077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7B3-B004-430C-9E9F-67EF0F43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D5469-1707-481D-9DA9-67FB22FC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AEFF9-FA6E-4515-B9B2-BB3795617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5F273-897D-414B-A546-DC91D2EA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52F3C-EE4A-4C3F-B6FF-B9141535C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19BBD-65C5-4115-A10E-8C6AA53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18AC2A-3809-4660-AFC2-0BA7A522E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65AD3-91CC-4107-8B89-386513AD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87A2-499C-448E-846B-1060C185C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85171-E0AB-406D-939D-B5C13D43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4A00E-684E-4065-BCEB-6204AAF1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BF783-5F00-40B8-B030-8451696D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35CBD-3FED-407A-9B78-3499131D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F3F7C-419D-4FAE-BB0D-0575FFC57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23DD9-7E66-478D-9DD9-457A3EDF8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3522A-CDE9-44D1-BBC9-4C1F9BD9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3D711-208C-4ACC-975B-1D7ECB3C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6BC26-97CF-4B50-9214-5F8E3731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962FD-30E0-40F2-9163-CFF7C6362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5929-A1BB-43CC-B748-463275527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E11E97-F083-43FB-AA23-EF819C03E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B6CB-BA61-4941-895B-F990FAA0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EF98-92E9-43D9-A87E-B0067067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D0753-85B5-4F69-97EE-DE8A16CF7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1028C-3AA3-469D-BDAC-E0346561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38D63-D075-41CE-A0EB-9D451B210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CFFC0-D891-4C75-9C76-11E38A57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048D4-D1C0-4805-B011-6E083B2C0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30A342-D491-4067-B420-24EB05267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BF00-47F5-4664-A904-4655DF95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D81-9FEA-4E85-98B6-D05DD629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70F3-CBC7-4FAB-8753-FC42F9B5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C2B9A-88F1-4C8C-BFB3-21F286E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E59-79DE-482B-A100-379CA861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54C1-CDB4-4534-83D8-66212CD04559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201-CC0C-4108-8667-60BC3B3F7E21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74DC8-59C9-4791-9571-3760F4BD5E12}" type="slidenum">
              <a:rPr b="0" lang="ru-RU" sz="1200" spc="-1" strike="noStrike">
                <a:solidFill>
                  <a:srgbClr val="cacacc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Georgia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Georg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196E-7A33-42DD-BF8C-AAF9114D66B0}" type="slidenum">
              <a:rPr b="0" lang="ru-RU" sz="1200" spc="-1" strike="noStrike">
                <a:solidFill>
                  <a:srgbClr val="565e72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hyperlink" Target="http://img.mota.ru/upload/wallpapers/2009/11/07/16/04/59/nature_049-1152x864.jpg" TargetMode="External"/><Relationship Id="rId4" Type="http://schemas.openxmlformats.org/officeDocument/2006/relationships/hyperlink" Target="http://img.mota.ru/upload/wallpapers/2009/11/07/16/04/59/nature_049-1152x864.jpg" TargetMode="External"/><Relationship Id="rId5" Type="http://schemas.openxmlformats.org/officeDocument/2006/relationships/hyperlink" Target="http://img.mota.ru/upload/wallpapers/2009/11/07/16/04/59/nature_049-1152x864.jpg" TargetMode="External"/><Relationship Id="rId6" Type="http://schemas.openxmlformats.org/officeDocument/2006/relationships/hyperlink" Target="http://img.mota.ru/upload/wallpapers/2009/11/07/16/04/59/nature_049-1152x864.jpg" TargetMode="External"/><Relationship Id="rId7" Type="http://schemas.openxmlformats.org/officeDocument/2006/relationships/hyperlink" Target="http://img.mota.ru/upload/wallpapers/2009/11/07/16/04/59/nature_049-1152x864.jpg" TargetMode="External"/><Relationship Id="rId8" Type="http://schemas.openxmlformats.org/officeDocument/2006/relationships/hyperlink" Target="http://img.mota.ru/upload/wallpapers/2009/11/07/16/04/59/nature_049-1152x864.jpg" TargetMode="External"/><Relationship Id="rId9" Type="http://schemas.openxmlformats.org/officeDocument/2006/relationships/hyperlink" Target="http://img.mota.ru/upload/wallpapers/2009/11/07/16/04/59/nature_049-1152x864.jpg" TargetMode="External"/><Relationship Id="rId10" Type="http://schemas.openxmlformats.org/officeDocument/2006/relationships/hyperlink" Target="http://img.mota.ru/upload/wallpapers/2009/11/07/16/04/59/nature_049-1152x864.jpg" TargetMode="External"/><Relationship Id="rId11" Type="http://schemas.openxmlformats.org/officeDocument/2006/relationships/hyperlink" Target="http://img.mota.ru/upload/wallpapers/2009/11/07/16/04/59/nature_049-1152x864.jpg" TargetMode="External"/><Relationship Id="rId12" Type="http://schemas.openxmlformats.org/officeDocument/2006/relationships/hyperlink" Target="http://img.mota.ru/upload/wallpapers/2009/11/07/16/04/59/nature_049-1152x864.jpg" TargetMode="External"/><Relationship Id="rId13" Type="http://schemas.openxmlformats.org/officeDocument/2006/relationships/hyperlink" Target="http://img.mota.ru/upload/wallpapers/2009/11/07/16/04/59/nature_049-1152x864.jpg" TargetMode="External"/><Relationship Id="rId14" Type="http://schemas.openxmlformats.org/officeDocument/2006/relationships/hyperlink" Target="http://img.mota.ru/upload/wallpapers/2009/11/07/16/04/59/nature_049-1152x864.jpg" TargetMode="External"/><Relationship Id="rId15" Type="http://schemas.openxmlformats.org/officeDocument/2006/relationships/hyperlink" Target="http://img.mota.ru/upload/wallpapers/2009/11/07/16/04/59/nature_049-1152x864.jpg" TargetMode="External"/><Relationship Id="rId16" Type="http://schemas.openxmlformats.org/officeDocument/2006/relationships/hyperlink" Target="http://img.mota.ru/upload/wallpapers/2009/11/07/16/04/59/nature_049-1152x864.jpg" TargetMode="External"/><Relationship Id="rId17" Type="http://schemas.openxmlformats.org/officeDocument/2006/relationships/hyperlink" Target="http://img.mota.ru/upload/wallpapers/2009/11/07/16/04/59/nature_049-1152x864.jpg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harmonyvl.ru/pricing/img/forest.jpg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hyperlink" Target="http://img1.liveinternet.ru/images/attach/c/1/48/906/48906883_kaban.jpg" TargetMode="External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21428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Презентация</a:t>
            </a:r>
            <a:r>
              <a:rPr b="0" lang="ru-RU" sz="5000" spc="-1" strike="noStrike">
                <a:solidFill>
                  <a:srgbClr val="d4d4d6"/>
                </a:solidFill>
                <a:latin typeface="Georgia"/>
              </a:rPr>
              <a:t> </a:t>
            </a:r>
            <a:r>
              <a:rPr b="0" lang="ru-RU" sz="5000" spc="-1" strike="noStrike">
                <a:solidFill>
                  <a:srgbClr val="60b5cc"/>
                </a:solidFill>
                <a:latin typeface="Georgia"/>
              </a:rPr>
              <a:t>у уроку географии в 8 классе</a:t>
            </a:r>
            <a:endParaRPr b="0" lang="en-US" sz="5000" spc="-1" strike="noStrike">
              <a:solidFill>
                <a:srgbClr val="d4d4d6"/>
              </a:solidFill>
              <a:latin typeface="Georg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00280" y="4857840"/>
            <a:ext cx="542952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Лиходеева Г.Н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учитель географии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МБОУ СОШ № 18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станицы Ивановской Красноармейского района           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  <a:p>
            <a:pPr marL="272880" indent="-272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Краснодарского края </a:t>
            </a:r>
            <a:endParaRPr b="0" lang="en-US" sz="1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533160" y="2714760"/>
            <a:ext cx="7854840" cy="17143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Зона смешанных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широколиственно-хвойных лесов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70293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Проверочная работа.</a:t>
            </a:r>
            <a:br>
              <a:rPr sz="3200"/>
            </a:br>
            <a:r>
              <a:rPr b="1" lang="ru-RU" sz="3200" spc="-1" strike="noStrike">
                <a:solidFill>
                  <a:srgbClr val="5a6378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5a6378"/>
                </a:solidFill>
                <a:latin typeface="Georgia"/>
              </a:rPr>
              <a:t>Установить соответствие.</a:t>
            </a:r>
            <a:endParaRPr b="0" lang="en-US" sz="3200" spc="-1" strike="noStrike">
              <a:solidFill>
                <a:srgbClr val="5a6378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600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 fontScale="94000"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Произрастают только хвойные деревь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Расположены серые лесные почвы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ильно изменены хозяйственной деятельностью человек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Климат мягкий, лето продолжительно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Занимает наибольшую площадь Росс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00720" y="1676520"/>
            <a:ext cx="400032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7000"/>
          </a:bodyPr>
          <a:p>
            <a:pPr marL="264600" indent="-264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lang="ru-RU" sz="1600" spc="-1" strike="noStrike">
                <a:solidFill>
                  <a:srgbClr val="ff0000"/>
                </a:solidFill>
                <a:latin typeface="Georgia"/>
              </a:rPr>
              <a:t> вариант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Тайга –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мешанный лес-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Характерно очаговое расселение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Численность животных сильно сокращена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уровые климатические услович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ет ярко выраженных надпойменных террас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Слабая заболачиваемост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64600" indent="-264600">
              <a:spcBef>
                <a:spcPts val="40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advTm="6000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"/>
          <p:cNvSpPr/>
          <p:nvPr/>
        </p:nvSpPr>
        <p:spPr>
          <a:xfrm>
            <a:off x="714240" y="2022840"/>
            <a:ext cx="785844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B%D0%B5%D1%81%D0%B0%20%D1%80%D0%BE%D1%81%D1%81%D0%B8%D0%B8%20%D1%84%D0%BE%D1%82%D0%BE&amp;stype=image&amp;noreask=1&amp;lr=35 -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са Росс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4"/>
              </a:rPr>
              <a:t>:/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5"/>
              </a:rPr>
              <a:t>img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6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7"/>
              </a:rPr>
              <a:t>mota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8"/>
              </a:rPr>
              <a:t>.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9"/>
              </a:rPr>
              <a:t>ru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1"/>
              </a:rPr>
              <a:t>upload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2"/>
              </a:rPr>
              <a:t>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3"/>
              </a:rPr>
              <a:t>wallpapers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4"/>
              </a:rPr>
              <a:t>/2009/11/07/16/04/59/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5"/>
              </a:rPr>
              <a:t>nature</a:t>
            </a:r>
            <a:r>
              <a:rPr b="0" lang="ru-RU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6"/>
              </a:rPr>
              <a:t>_049-1152</a:t>
            </a:r>
            <a:r>
              <a:rPr b="0" lang="en-US" sz="1800" spc="-1" strike="noStrike" u="sng">
                <a:solidFill>
                  <a:srgbClr val="168bba"/>
                </a:solidFill>
                <a:uFillTx/>
                <a:latin typeface="Times New Roman"/>
                <a:ea typeface="Times New Roman"/>
                <a:hlinkClick r:id="rId17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4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pg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категория Леса и дерев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ages.yandex.ru/yandsearch?text=%D0%B6%D0%B8%D0%B2%D0%BE%D1%82%D0%BD%D1%8B%D0%B5%20%D0%BB%D0%B5%D1%81%D0%BE%D0%B2%20%D1%80%D0%BE%D1%81%D1%81%D0%B8%D0%B8&amp;stype=image&amp;noreask=1&amp;lr=35   -  Животные лесов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1"/>
          <p:cNvSpPr/>
          <p:nvPr/>
        </p:nvSpPr>
        <p:spPr>
          <a:xfrm>
            <a:off x="1000080" y="1071720"/>
            <a:ext cx="71438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Здравствуй, лес, дремучий ле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ый сказок и чудес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о чем шумишь листвою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о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ной, грозово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нам шепчешь на зар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ь в росе, как в сереб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то в глуши твоей таитс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за зверь? Какая птиц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открой, не утаи!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ы же видишь, мы сво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. Погорел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http://bm.img.com.ua/img/prikol/images/large/3/4/66543_61142.jpg"/>
          <p:cNvPicPr/>
          <p:nvPr/>
        </p:nvPicPr>
        <p:blipFill>
          <a:blip r:embed="rId2"/>
          <a:stretch/>
        </p:blipFill>
        <p:spPr>
          <a:xfrm>
            <a:off x="428760" y="4714920"/>
            <a:ext cx="1714320" cy="16430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http://www.drmahaki.com/wp/wp-content/uploads/2006/03/Lavizan.JPG"/>
          <p:cNvPicPr/>
          <p:nvPr/>
        </p:nvPicPr>
        <p:blipFill>
          <a:blip r:embed="rId3"/>
          <a:stretch/>
        </p:blipFill>
        <p:spPr>
          <a:xfrm>
            <a:off x="6429240" y="4786200"/>
            <a:ext cx="2357640" cy="1822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http://im8-tub-ru.yandex.net/i?id=42083839-40-7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85840" y="1071720"/>
            <a:ext cx="1857240" cy="17143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2431800" y="3960"/>
            <a:ext cx="263736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СТВЕННЫЙ Л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2"/>
          <p:cNvSpPr/>
          <p:nvPr/>
        </p:nvSpPr>
        <p:spPr>
          <a:xfrm>
            <a:off x="631440" y="14040"/>
            <a:ext cx="108612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http://i044.radikal.ru/1005/59/1ce92d7f0968.jpg"/>
          <p:cNvPicPr/>
          <p:nvPr/>
        </p:nvPicPr>
        <p:blipFill>
          <a:blip r:embed="rId2"/>
          <a:stretch/>
        </p:blipFill>
        <p:spPr>
          <a:xfrm>
            <a:off x="1143000" y="1357200"/>
            <a:ext cx="7286760" cy="464364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2" descr=""/>
          <p:cNvPicPr/>
          <p:nvPr/>
        </p:nvPicPr>
        <p:blipFill>
          <a:blip r:embed="rId2"/>
          <a:stretch/>
        </p:blipFill>
        <p:spPr>
          <a:xfrm>
            <a:off x="1133640" y="281160"/>
            <a:ext cx="7608600" cy="798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http://www.miller-mccune.com/wp-content/uploads/2010/01/mmw_oldgrowth.jpg"/>
          <p:cNvPicPr/>
          <p:nvPr/>
        </p:nvPicPr>
        <p:blipFill>
          <a:blip r:embed="rId3"/>
          <a:stretch/>
        </p:blipFill>
        <p:spPr>
          <a:xfrm>
            <a:off x="1000080" y="1428840"/>
            <a:ext cx="7358040" cy="442908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071720" y="23400"/>
            <a:ext cx="70722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, точно терем распи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иловый, золотой, багря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селой, пестрою сте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ит над светлою поля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ерезы желтою резьб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лестят в лазури голуб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ак вышки, елочки темнею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 между кленами сине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о там, то здесь в листве сквоз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светы в небо, что окон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Лес пахнет дубом и сосно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 лето высох он от солнц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осень тихою вд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528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ступает в пестрый терем с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Заголовок 2" descr=""/>
          <p:cNvPicPr/>
          <p:nvPr/>
        </p:nvPicPr>
        <p:blipFill>
          <a:blip r:embed="rId2"/>
          <a:stretch/>
        </p:blipFill>
        <p:spPr>
          <a:xfrm>
            <a:off x="450720" y="701640"/>
            <a:ext cx="8321760" cy="444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http://www.nikblo.ru/P/p60.jpg"/>
          <p:cNvPicPr/>
          <p:nvPr/>
        </p:nvPicPr>
        <p:blipFill>
          <a:blip r:embed="rId3"/>
          <a:stretch/>
        </p:blipFill>
        <p:spPr>
          <a:xfrm>
            <a:off x="1214280" y="1500120"/>
            <a:ext cx="6929640" cy="466092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500040" y="857160"/>
          <a:ext cx="8001000" cy="542628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487440">
                <a:tc>
                  <a:txBody>
                    <a:bodyPr lIns="57960" rIns="57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Тайг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ешанные ле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лошная полоса. Занимает большую площад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имеет сплошного распространен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Моренный рельеф, нет надпойменных террас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ообразный рельеф: моренный рельеф, пологие котловины, надпойменные терр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56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ровые климатические услов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приятные климатические услови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ными и грунтовыми водами. Заболочение. Многолетняя мерзлота. &gt;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гата поверхностями и грунтовыми водами. Заболочена меньше. Нет многолетней мерзл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золистые  почвы + мерзлотно-таежны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ново-подзолистые серые лесные почв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йные породы деревье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ые + хвойные пород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 видов млекопитающих. Пушные звери (соболь, норка, куница, белка, выдра). Семеноядные птицы. Очаговое расс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ушные звери (лисица, белка, куница, енотовидная собака, горностай, лесной хорь). Много семеноядных птиц. Сильно истреблены человеко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040"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опромысловое хозяйство. Разведение молочного и мясо-молочного крупного рогатого скота. Юг – земледелие (рожь, ячмень, лен, картофель, овощи, кормовые травы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960" rIns="57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тая сеть городских и сельских поселений. Выборочное земледельческое освоение (рожь, ячмень, пшеница, сахарная свекла, картофель, кормовые травы, ягоды). Мясо-молочное животноводство и свиноводство, птицеводство, пчеловодство. Пригородный тип с/х. Лесопромысловое хозяйство развито слабе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7960" marR="57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2"/>
          <a:stretch/>
        </p:blipFill>
        <p:spPr>
          <a:xfrm>
            <a:off x="450720" y="493560"/>
            <a:ext cx="8321760" cy="725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2" descr="http://www.tvoyrebenok.ru/images/animals/116.1.jpg"/>
          <p:cNvPicPr/>
          <p:nvPr/>
        </p:nvPicPr>
        <p:blipFill>
          <a:blip r:embed="rId3"/>
          <a:stretch/>
        </p:blipFill>
        <p:spPr>
          <a:xfrm rot="19429200">
            <a:off x="1571400" y="1428840"/>
            <a:ext cx="1752480" cy="1643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4" descr="Картинка 3 из 12992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643200" y="1428840"/>
            <a:ext cx="2203560" cy="1500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basik.ru/images/2415/47.jpg"/>
          <p:cNvPicPr/>
          <p:nvPr/>
        </p:nvPicPr>
        <p:blipFill>
          <a:blip r:embed="rId6"/>
          <a:stretch/>
        </p:blipFill>
        <p:spPr>
          <a:xfrm rot="1873800">
            <a:off x="6588000" y="1456920"/>
            <a:ext cx="1881360" cy="1411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8" descr="http://stat17.privet.ru/lr/0a04a181344c883dbe796cb728191892"/>
          <p:cNvPicPr/>
          <p:nvPr/>
        </p:nvPicPr>
        <p:blipFill>
          <a:blip r:embed="rId7"/>
          <a:stretch/>
        </p:blipFill>
        <p:spPr>
          <a:xfrm>
            <a:off x="2143080" y="5000760"/>
            <a:ext cx="2006640" cy="13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http://www.ebftour.ru/images/load/Image/18(42).jpg"/>
          <p:cNvPicPr/>
          <p:nvPr/>
        </p:nvPicPr>
        <p:blipFill>
          <a:blip r:embed="rId8"/>
          <a:stretch/>
        </p:blipFill>
        <p:spPr>
          <a:xfrm rot="20124000">
            <a:off x="1285920" y="3428640"/>
            <a:ext cx="1996920" cy="15001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2" descr="http://stat16.privet.ru/lr/0b0b93eabfaf370a8211f11b7540ae40"/>
          <p:cNvPicPr/>
          <p:nvPr/>
        </p:nvPicPr>
        <p:blipFill>
          <a:blip r:embed="rId9"/>
          <a:stretch/>
        </p:blipFill>
        <p:spPr>
          <a:xfrm rot="1383000">
            <a:off x="6286320" y="3285720"/>
            <a:ext cx="2038320" cy="13572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4" descr="http://www.forumimage.ru/uploads/20091030/125688203656458484.jpg"/>
          <p:cNvPicPr/>
          <p:nvPr/>
        </p:nvPicPr>
        <p:blipFill>
          <a:blip r:embed="rId10"/>
          <a:stretch/>
        </p:blipFill>
        <p:spPr>
          <a:xfrm>
            <a:off x="4214880" y="2857680"/>
            <a:ext cx="1473120" cy="2214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6" descr="http://www.peaceinpractice.iinet.net.au/images/wolfs.jpg"/>
          <p:cNvPicPr/>
          <p:nvPr/>
        </p:nvPicPr>
        <p:blipFill>
          <a:blip r:embed="rId11"/>
          <a:stretch/>
        </p:blipFill>
        <p:spPr>
          <a:xfrm>
            <a:off x="4952880" y="5000760"/>
            <a:ext cx="2106720" cy="1582560"/>
          </a:xfrm>
          <a:prstGeom prst="rect">
            <a:avLst/>
          </a:prstGeom>
          <a:ln w="0">
            <a:noFill/>
          </a:ln>
        </p:spPr>
      </p:pic>
    </p:spTree>
  </p:cSld>
  <p:transition advTm="6000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493560" y="706320"/>
            <a:ext cx="8394840" cy="1146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1" name=""/>
          <p:cNvGraphicFramePr/>
          <p:nvPr/>
        </p:nvGraphicFramePr>
        <p:xfrm>
          <a:off x="428760" y="2071800"/>
          <a:ext cx="8215200" cy="3933720"/>
        </p:xfrm>
        <a:graphic>
          <a:graphicData uri="http://schemas.openxmlformats.org/drawingml/2006/table">
            <a:tbl>
              <a:tblPr/>
              <a:tblGrid>
                <a:gridCol w="2214360"/>
                <a:gridCol w="6000840"/>
              </a:tblGrid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рон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Хвойно-витаминная мука, лекарственны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учь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Щепа для производства картона и древесных пл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Ко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Дубильные вещества, наполнители строительных блок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Ство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Пиломатериалы, шпалы, крепления для шахт, опоры для линий связи и электропередачи. целлюлоза. бумага, этиловый спирт, мебель, фанера, кормовые дрожжи, строения, спички, карандаши, лыжи, музыкальные инструменты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d9253e"/>
                          </a:solidFill>
                          <a:latin typeface="Times New Roman"/>
                          <a:ea typeface="Times New Roman"/>
                        </a:rPr>
                        <a:t>Пень и кор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5271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Канифоль, скипидар, камфара, фурфуро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advTm="6000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4T07:06:36Z</dcterms:created>
  <dc:creator>пользователь</dc:creator>
  <dc:description/>
  <dc:language>en-US</dc:language>
  <cp:lastModifiedBy>КарМаН</cp:lastModifiedBy>
  <dcterms:modified xsi:type="dcterms:W3CDTF">2012-03-20T02:00:49Z</dcterms:modified>
  <cp:revision>80</cp:revision>
  <dc:subject/>
  <dc:title>Слайд 1</dc:title>
</cp:coreProperties>
</file>